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90B-15CF-4DE4-956C-6E6B30F3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B7B-A75C-4EAC-BD61-54CC2B49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F2C-73DA-4CDD-96FC-6BFA4082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DDD-F086-4A49-B765-AA525669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A196-32B7-46CD-B7E1-2273080B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8D1D-A135-4B88-9240-216CDDA5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E5C6-24F4-45E9-9056-DE65230A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0C2B-69E8-4475-8858-6F2557C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160C-5F0F-4CD2-86A5-BAF982A9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5D61-C67E-4E67-A641-C4C4B46B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FDD8-C4EC-4E66-9BBD-D83A36B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E19-E6EF-4FC4-B1F7-21EF7843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7F22-6B20-4A1B-9303-B79DF00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C814-24C7-4802-8492-D3DFA7EB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1760-15EE-41BC-979C-1128053A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EDF-5CAF-4D2B-9EDD-8CD9D00E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7DAE-F919-45AA-8FB0-3060FC66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8EAB-6640-478F-85F6-AD2B3E37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8609-0934-4299-9646-5C99501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E7AB-06DB-43D1-9E60-F3ED849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94A3-DE4E-466A-A5A1-B6106A3A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EE19-5F3B-432B-9EA0-8E63C8F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EBB-E988-4BDC-864D-C774B986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DD4D-5D5F-494A-A107-07B752E2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720B-C64F-4338-99AF-518C230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364A-B32E-479E-8254-FB4FA4A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AADC-3DD3-4025-AA8B-E026B135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E6A2-CDB4-406D-AE20-421AF80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2FBC-088F-43E8-B1B4-3D13F072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4656-12DC-4958-975D-83E4DFA5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09BD-2F89-44B1-B94D-0EC8B297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F000-A0E4-4B2B-A445-39C3AE1D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C11C-0172-4481-A551-EB91941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74D-8D78-4562-A6BF-86F269B0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D58C-9AA2-4D83-96E3-EC6E92F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AC03-1507-4AC0-89E9-086E821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9E6A-F8CF-43CF-B8A1-2A9EF797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9A4DD-5CF5-4DC3-9B93-0E635A3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2566-326A-4D22-8874-0A05C067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4506-0C7F-451D-BE81-310343C1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3CB3-124C-46C2-8D88-8FC029FD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1F83-BCDF-4660-B47D-CB77CEC4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A55D9-608A-498A-BC31-B2072539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746F-3D49-4F0C-99CE-5B9BF3A6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AA2-2E38-450A-9E06-CE876C1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C81CB-B342-4187-8221-A8A476B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138B-CF13-4ED0-9BD3-619F7FF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B979A-A808-4EAD-9FDD-4C793C76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E98A-A5D1-470A-B039-EF2A22F9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635B-9CB7-494C-9D8D-0162D37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06F8-AE87-460E-947E-C68B31E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9A0E-7B82-4940-9CC5-35A4AC78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F729-4F41-47BB-80E4-481EFEA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4E6C1-269D-4C55-AE13-E7A2231E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256A-D89F-446B-86C1-9B0A7849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4F8-FD37-4332-BF87-33ECBE7E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234A-BC5F-4B57-8E02-1691006F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8B3-1DC3-4A41-8CBE-8C1C2747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96F-407C-4541-A7F3-4DACAC50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FC7-E145-49E1-BE79-6C719BAE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2BBE-8A52-4459-BD8A-0B18E62770B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8C7C-B95C-45AC-A653-C23411B8146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3BE-4A45-4E94-B2A5-5AF984DCBEB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D417-3680-4EB0-9BA9-CDFCD28049B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2201-61CF-449C-AD27-08E894A67D2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3/DimeNovel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d3e"/>
                </a:solidFill>
                <a:latin typeface="Bernard MT Condensed"/>
              </a:rPr>
              <a:t>Dime Novels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Propaganda of the W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990720" y="4191120"/>
            <a:ext cx="662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1860 a publishing phenomenon appeared that would provide Americans a wealth of popular fiction in a regular series at a fixed, inexpensive price. Early dime novels, first printed in orange wrapper papers, were patriotic, often nationalistic tales of encounters between Indians and backwoods settlers. By the mid-1890s, bold color covers depicting scenes of bloodshed and courage appealed to a mostly adolescent audience.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loc.gov/exhibits/treasures/tri015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images.google.com/url?source=imgres&amp;ct=tbn&amp;q=http://www.cometoevergreen.com/wp-content/uploads/2008/07/buffalobillwildwest-lrg.jpg&amp;usg=AFQjCNEPjHQ0S5Xlo0_V2vH0RZOJyRXKf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uffalo Bill's Best Shot, no. 3,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December 29, 1897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http://www.loc.gov/exhibits/treasures/images/at0190_6s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PowerPoint, you will find the covers of eight “dime novels” from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ntury, all of which presented a largely fictional version of the West to an audience of Easterners (mostly young readers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ow the title of each dime novel, you will write a brief description of what you think the story is about.  Write as if you are trying to convince readers that this story is an exciting, “true-life” adven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you are done, click “Save As” and save this PPT under the following na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me Novels.YOUR LAST NAME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n save the file in your digital drop bo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on the “start” men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on “My Computer.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you see “drop boxes,” open yours and drag the file into the drop bo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2" descr="http://www.library.pitt.edu/libraries/is/enroom/images/diamond_dick2.jpg"/>
          <p:cNvPicPr/>
          <p:nvPr/>
        </p:nvPicPr>
        <p:blipFill>
          <a:blip r:embed="rId1"/>
          <a:stretch/>
        </p:blipFill>
        <p:spPr>
          <a:xfrm>
            <a:off x="7543800" y="4740120"/>
            <a:ext cx="16002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ssue of Beadle's Dime Novels, published in 186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File:DimeNov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0"/>
            <a:ext cx="423864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uffalo Bill's Special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ervice. No. 243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ew York: Buffalo Bill Stories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1906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http://www.loc.gov/exhibits/treasures/images/s190.1.jpg"/>
          <p:cNvPicPr/>
          <p:nvPr/>
        </p:nvPicPr>
        <p:blipFill>
          <a:blip r:embed="rId1"/>
          <a:stretch/>
        </p:blipFill>
        <p:spPr>
          <a:xfrm>
            <a:off x="3875040" y="304920"/>
            <a:ext cx="4792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rack Skull Bob. No. 5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Orum &amp; Company,1872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http://www.loc.gov/exhibits/treasures/images/vc188.1.jpg"/>
          <p:cNvPicPr/>
          <p:nvPr/>
        </p:nvPicPr>
        <p:blipFill>
          <a:blip r:embed="rId1"/>
          <a:stretch/>
        </p:blipFill>
        <p:spPr>
          <a:xfrm>
            <a:off x="4267080" y="0"/>
            <a:ext cx="46958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Jesse James Protector. No. 113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Jesse James Stories, 1903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http://www.loc.gov/exhibits/treasures/images/s189.1.jpg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King of the Wild West's Cattle War or Stella's Bout with the Rival Ranchers,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rack Skull Bob, no. 170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www.loc.gov/exhibits/treasures/images/at0188as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Jessie James the Outlaw, no. 2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Jesse James Stories,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December 22, 1897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loc.gov/exhibits/treasures/images/at0189as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White Wolf; or, The Mountain Den, no. 110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Robert M. Dewit Publishers, 187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http://www.loc.gov/exhibits/treasures/images/at0190a_1s.jp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2:32:45Z</dcterms:created>
  <dc:creator>Tech Dept</dc:creator>
  <dc:description/>
  <dc:language>en-US</dc:language>
  <cp:lastModifiedBy>Tech Dept</cp:lastModifiedBy>
  <dcterms:modified xsi:type="dcterms:W3CDTF">2009-12-17T11:11:14Z</dcterms:modified>
  <cp:revision>3</cp:revision>
  <dc:subject/>
  <dc:title>Dime Novels</dc:title>
</cp:coreProperties>
</file>